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3DB5-79B0-4A0E-ADB4-69EAB037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667-4C8D-4D4F-8A3B-2D054F9E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423-1B1E-44E3-81EC-BFBAC994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FD64-CA95-47F5-BF14-B714A87E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4580-87C7-4E16-B835-7F67AE70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FFEC-58E4-4D05-B0AF-3038D507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5DAC-7B43-4ED3-86C2-D31BBA88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6509-6D74-42F0-AE5F-47320671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458B-D028-4BDC-ACAD-4F9C26F3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027A-3FBE-4A85-B9E7-E4610AA0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97F3-C380-4020-808E-CE3109E1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868F-35F1-4B3E-9435-CC3687FA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1690-D9D5-4B46-9CE8-C0FCADB6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4C30-AD9B-4E5C-AEA8-EF9C40B1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8A0B-2876-47EE-B25B-F15EC253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50E9-C9AD-41AF-A140-8307C86F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E98E-8539-44CE-93B8-5C6E2D18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C7B1-B7AE-407E-A726-53D61F18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0F6D-1667-43C0-A3B9-75B5C3DA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7A7-AACE-46A3-BB55-449539F1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BD5A-16DF-49A0-B91A-10019208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088-E690-4995-AD4D-A7EFBDA7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05FA-B252-411D-A43F-70A5D84D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8FBB-DAE7-498A-9DE7-9FA26515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D720-4A0B-4BAE-88C8-B18E707BA6CF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F17A-908B-467C-AC9E-A701B80F4485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matematyka.opracowania.pl/gimnazjum" TargetMode="External"/><Relationship Id="rId2" Type="http://schemas.openxmlformats.org/officeDocument/2006/relationships/hyperlink" Target="http://matematyka.opracowania.pl/gimnazjum" TargetMode="External"/><Relationship Id="rId3" Type="http://schemas.openxmlformats.org/officeDocument/2006/relationships/hyperlink" Target="http://matematyka.opracowania.pl/gimnazjum" TargetMode="External"/><Relationship Id="rId4" Type="http://schemas.openxmlformats.org/officeDocument/2006/relationships/hyperlink" Target="http://www.bazywiedzy.com/" TargetMode="External"/><Relationship Id="rId5" Type="http://schemas.openxmlformats.org/officeDocument/2006/relationships/hyperlink" Target="http://www.math.edu.pl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753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Działania na ułamkach  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           zwykłych.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3" descr="https://encrypted-tbn2.google.com/images?q=tbn:ANd9GcTuJznYrdSIQvgCyBgJ8_kDlQDHh7PXBlEQqajPm_FwQibDsiG1"/>
          <p:cNvPicPr/>
          <p:nvPr/>
        </p:nvPicPr>
        <p:blipFill>
          <a:blip r:embed="rId1"/>
          <a:stretch/>
        </p:blipFill>
        <p:spPr>
          <a:xfrm>
            <a:off x="1258920" y="3645000"/>
            <a:ext cx="1676520" cy="2914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https://encrypted-tbn0.google.com/images?q=tbn:ANd9GcSnO5gGpeO6pq_FwPES-Gk1vxmJtdip9CFBq1FYFS-ofchE9wSr"/>
          <p:cNvPicPr/>
          <p:nvPr/>
        </p:nvPicPr>
        <p:blipFill>
          <a:blip r:embed="rId2"/>
          <a:stretch/>
        </p:blipFill>
        <p:spPr>
          <a:xfrm>
            <a:off x="7451640" y="4346640"/>
            <a:ext cx="1414440" cy="251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628640"/>
            <a:ext cx="7543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eśli dwa ułamki, które chcemy  odjąć mają różne mianowniki to należy najpierw sprowadzić je do wspólnego mianownika, następnie odjąć licznik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Odejmowanie ułamków zwykłych ze sprowadzaniem do wspólnego mianownika - przykład"/>
          <p:cNvPicPr/>
          <p:nvPr/>
        </p:nvPicPr>
        <p:blipFill>
          <a:blip r:embed="rId1"/>
          <a:stretch/>
        </p:blipFill>
        <p:spPr>
          <a:xfrm>
            <a:off x="4284720" y="4437000"/>
            <a:ext cx="4680000" cy="152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83628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żeli po sprowadzeniu ułamków do wspólnego mianownika część ułamkowa pierwszego z ułamków jest mniejsza od drugiego, należy zmniejszyć całości o je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492360" y="3429000"/>
            <a:ext cx="5257800" cy="2583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nożenie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ułamków zwykłych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7543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y pomnożyć dwa ułamki zwykłe należy wymnożyć ze sobą liczni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mianowniki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Mnożenie ułamków zwykłych - przykład"/>
          <p:cNvPicPr/>
          <p:nvPr/>
        </p:nvPicPr>
        <p:blipFill>
          <a:blip r:embed="rId1"/>
          <a:stretch/>
        </p:blipFill>
        <p:spPr>
          <a:xfrm>
            <a:off x="4140360" y="3716280"/>
            <a:ext cx="4103640" cy="1690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1116000" y="3860640"/>
            <a:ext cx="3024360" cy="104940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y pomnożyć liczbę naturalną przez ułamek (lub odwrotnie), mnożymy licznik ułamka przez tę liczbę,                    a mianownik zostawiamy bez zmia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843280" y="4221000"/>
            <a:ext cx="3241440" cy="114012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żeli chcemy pomnożyć przez siebie  dwie liczby mieszane, to obie zamieniamy na ułamki niewłaściwe                                    i mnożymy licznik przez licznik,                a mianownik przez mianowni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258920" y="4581360"/>
            <a:ext cx="7128000" cy="121788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Przed wykonaniem mnożenia skracamy ułamki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184720" cy="3663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3419640" y="2349360"/>
            <a:ext cx="21564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51280" y="2852640"/>
            <a:ext cx="21600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 rot="5400000">
            <a:off x="3277080" y="2275560"/>
            <a:ext cx="142560" cy="14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 rot="5400000">
            <a:off x="3996360" y="2923200"/>
            <a:ext cx="142920" cy="1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92360" y="2349360"/>
            <a:ext cx="142920" cy="28764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2852640"/>
            <a:ext cx="144360" cy="21600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zielenie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ułamków zwykłych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23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zielenie ułamków zwykłych jest równoznaczne z wymnożeniem pierwszego ułamka przez odwrotność drugiego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Dzielenie ułamków zwykłych - przykład"/>
          <p:cNvPicPr/>
          <p:nvPr/>
        </p:nvPicPr>
        <p:blipFill>
          <a:blip r:embed="rId1"/>
          <a:stretch/>
        </p:blipFill>
        <p:spPr>
          <a:xfrm>
            <a:off x="3924360" y="3645000"/>
            <a:ext cx="3889440" cy="1352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1187280" y="5013360"/>
            <a:ext cx="3918240" cy="113508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3721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zykła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5473800" cy="3635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iteratura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</a:t>
            </a: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matematyka.opracowania.pl</a:t>
            </a: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/gimnazjum</a:t>
            </a: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http://www.bazywiedzy.com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http://www.math.edu.pl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250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odawanie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ułamków zwykłych.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żeli dwa ułamki mają identyczne mianowniki to aby je dodać należy dodać liczniki tych ułamków                                 a mianownik pozostawić bez zmia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556000" y="4076640"/>
            <a:ext cx="2808000" cy="131292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zykł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24"/>
              <p:cNvSpPr txBox="1"/>
              <p:nvPr/>
            </p:nvSpPr>
            <p:spPr>
              <a:xfrm>
                <a:off x="1908000" y="3068640"/>
                <a:ext cx="360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2" name="Group 36"/>
          <p:cNvGrpSpPr/>
          <p:nvPr/>
        </p:nvGrpSpPr>
        <p:grpSpPr>
          <a:xfrm>
            <a:off x="1042920" y="2060640"/>
            <a:ext cx="7467840" cy="838080"/>
            <a:chOff x="1042920" y="2060640"/>
            <a:chExt cx="7467840" cy="838080"/>
          </a:xfrm>
        </p:grpSpPr>
        <p:sp>
          <p:nvSpPr>
            <p:cNvPr id="123" name="Rectangle 21"/>
            <p:cNvSpPr/>
            <p:nvPr/>
          </p:nvSpPr>
          <p:spPr>
            <a:xfrm>
              <a:off x="6448320" y="2060640"/>
              <a:ext cx="2062440" cy="838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25"/>
            <p:cNvSpPr/>
            <p:nvPr/>
          </p:nvSpPr>
          <p:spPr>
            <a:xfrm>
              <a:off x="3250440" y="2220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Text Box 26"/>
            <p:cNvSpPr/>
            <p:nvPr/>
          </p:nvSpPr>
          <p:spPr>
            <a:xfrm>
              <a:off x="5939640" y="2250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30"/>
            <p:cNvGrpSpPr/>
            <p:nvPr/>
          </p:nvGrpSpPr>
          <p:grpSpPr>
            <a:xfrm>
              <a:off x="1042920" y="2060640"/>
              <a:ext cx="2062440" cy="838080"/>
              <a:chOff x="1042920" y="2060640"/>
              <a:chExt cx="2062440" cy="838080"/>
            </a:xfrm>
          </p:grpSpPr>
          <p:grpSp>
            <p:nvGrpSpPr>
              <p:cNvPr id="127" name="Group 5"/>
              <p:cNvGrpSpPr/>
              <p:nvPr/>
            </p:nvGrpSpPr>
            <p:grpSpPr>
              <a:xfrm>
                <a:off x="1042920" y="2060640"/>
                <a:ext cx="2062440" cy="838080"/>
                <a:chOff x="1042920" y="2060640"/>
                <a:chExt cx="2062440" cy="838080"/>
              </a:xfrm>
            </p:grpSpPr>
            <p:sp>
              <p:nvSpPr>
                <p:cNvPr id="128" name="Rectangle 6"/>
                <p:cNvSpPr/>
                <p:nvPr/>
              </p:nvSpPr>
              <p:spPr>
                <a:xfrm>
                  <a:off x="1042920" y="2060640"/>
                  <a:ext cx="2062440" cy="8380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Line 7"/>
                <p:cNvSpPr/>
                <p:nvPr/>
              </p:nvSpPr>
              <p:spPr>
                <a:xfrm>
                  <a:off x="1042920" y="2479680"/>
                  <a:ext cx="2062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Rectangle 28"/>
              <p:cNvSpPr/>
              <p:nvPr/>
            </p:nvSpPr>
            <p:spPr>
              <a:xfrm>
                <a:off x="1042920" y="2060640"/>
                <a:ext cx="1351080" cy="419040"/>
              </a:xfrm>
              <a:prstGeom prst="rect">
                <a:avLst/>
              </a:prstGeom>
              <a:solidFill>
                <a:srgbClr val="9900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10"/>
              <p:cNvSpPr/>
              <p:nvPr/>
            </p:nvSpPr>
            <p:spPr>
              <a:xfrm>
                <a:off x="1682640" y="2060640"/>
                <a:ext cx="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11"/>
              <p:cNvSpPr/>
              <p:nvPr/>
            </p:nvSpPr>
            <p:spPr>
              <a:xfrm>
                <a:off x="2394000" y="2060640"/>
                <a:ext cx="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29"/>
              <p:cNvSpPr/>
              <p:nvPr/>
            </p:nvSpPr>
            <p:spPr>
              <a:xfrm>
                <a:off x="1042920" y="2479680"/>
                <a:ext cx="639720" cy="418680"/>
              </a:xfrm>
              <a:prstGeom prst="rect">
                <a:avLst/>
              </a:prstGeom>
              <a:solidFill>
                <a:srgbClr val="9900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32"/>
            <p:cNvGrpSpPr/>
            <p:nvPr/>
          </p:nvGrpSpPr>
          <p:grpSpPr>
            <a:xfrm>
              <a:off x="3674520" y="2060640"/>
              <a:ext cx="2062440" cy="838080"/>
              <a:chOff x="3674520" y="2060640"/>
              <a:chExt cx="2062440" cy="838080"/>
            </a:xfrm>
          </p:grpSpPr>
          <p:grpSp>
            <p:nvGrpSpPr>
              <p:cNvPr id="135" name="Group 14"/>
              <p:cNvGrpSpPr/>
              <p:nvPr/>
            </p:nvGrpSpPr>
            <p:grpSpPr>
              <a:xfrm>
                <a:off x="3674520" y="2060640"/>
                <a:ext cx="2062440" cy="838080"/>
                <a:chOff x="3674520" y="2060640"/>
                <a:chExt cx="2062440" cy="838080"/>
              </a:xfrm>
            </p:grpSpPr>
            <p:sp>
              <p:nvSpPr>
                <p:cNvPr id="136" name="Rectangle 15"/>
                <p:cNvSpPr/>
                <p:nvPr/>
              </p:nvSpPr>
              <p:spPr>
                <a:xfrm>
                  <a:off x="3674520" y="2060640"/>
                  <a:ext cx="2062440" cy="8380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Line 16"/>
                <p:cNvSpPr/>
                <p:nvPr/>
              </p:nvSpPr>
              <p:spPr>
                <a:xfrm>
                  <a:off x="3674520" y="2479680"/>
                  <a:ext cx="2062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Rectangle 31"/>
              <p:cNvSpPr/>
              <p:nvPr/>
            </p:nvSpPr>
            <p:spPr>
              <a:xfrm>
                <a:off x="4314600" y="2479680"/>
                <a:ext cx="1422000" cy="418680"/>
              </a:xfrm>
              <a:prstGeom prst="rect">
                <a:avLst/>
              </a:prstGeom>
              <a:solidFill>
                <a:srgbClr val="9900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18"/>
              <p:cNvSpPr/>
              <p:nvPr/>
            </p:nvSpPr>
            <p:spPr>
              <a:xfrm>
                <a:off x="5025960" y="2060640"/>
                <a:ext cx="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17"/>
              <p:cNvSpPr/>
              <p:nvPr/>
            </p:nvSpPr>
            <p:spPr>
              <a:xfrm>
                <a:off x="4314600" y="2060640"/>
                <a:ext cx="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" name="Rectangle 33"/>
            <p:cNvSpPr/>
            <p:nvPr/>
          </p:nvSpPr>
          <p:spPr>
            <a:xfrm>
              <a:off x="6448320" y="2060640"/>
              <a:ext cx="2062440" cy="41904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6448320" y="2479680"/>
              <a:ext cx="206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>
              <a:off x="7799760" y="20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6448320" y="2479680"/>
              <a:ext cx="1351080" cy="41868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3"/>
            <p:cNvSpPr/>
            <p:nvPr/>
          </p:nvSpPr>
          <p:spPr>
            <a:xfrm>
              <a:off x="7088400" y="20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Group 72"/>
          <p:cNvGrpSpPr/>
          <p:nvPr/>
        </p:nvGrpSpPr>
        <p:grpSpPr>
          <a:xfrm>
            <a:off x="1692360" y="4076640"/>
            <a:ext cx="5615640" cy="1657080"/>
            <a:chOff x="1692360" y="4076640"/>
            <a:chExt cx="5615640" cy="1657080"/>
          </a:xfrm>
        </p:grpSpPr>
        <p:grpSp>
          <p:nvGrpSpPr>
            <p:cNvPr id="147" name="Group 52"/>
            <p:cNvGrpSpPr/>
            <p:nvPr/>
          </p:nvGrpSpPr>
          <p:grpSpPr>
            <a:xfrm>
              <a:off x="1692360" y="4724280"/>
              <a:ext cx="5615640" cy="432360"/>
              <a:chOff x="1692360" y="4724280"/>
              <a:chExt cx="5615640" cy="432360"/>
            </a:xfrm>
          </p:grpSpPr>
          <p:sp>
            <p:nvSpPr>
              <p:cNvPr id="148" name="Line 44"/>
              <p:cNvSpPr/>
              <p:nvPr/>
            </p:nvSpPr>
            <p:spPr>
              <a:xfrm>
                <a:off x="1692360" y="4940280"/>
                <a:ext cx="5615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45"/>
              <p:cNvSpPr/>
              <p:nvPr/>
            </p:nvSpPr>
            <p:spPr>
              <a:xfrm>
                <a:off x="209952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>
                <a:off x="250632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47"/>
              <p:cNvSpPr/>
              <p:nvPr/>
            </p:nvSpPr>
            <p:spPr>
              <a:xfrm>
                <a:off x="291312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48"/>
              <p:cNvSpPr/>
              <p:nvPr/>
            </p:nvSpPr>
            <p:spPr>
              <a:xfrm>
                <a:off x="332028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49"/>
              <p:cNvSpPr/>
              <p:nvPr/>
            </p:nvSpPr>
            <p:spPr>
              <a:xfrm>
                <a:off x="372708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50"/>
              <p:cNvSpPr/>
              <p:nvPr/>
            </p:nvSpPr>
            <p:spPr>
              <a:xfrm>
                <a:off x="4133880" y="4724280"/>
                <a:ext cx="0" cy="43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Text Box 51"/>
            <p:cNvSpPr/>
            <p:nvPr/>
          </p:nvSpPr>
          <p:spPr>
            <a:xfrm>
              <a:off x="1950840" y="5073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Object 1030"/>
                <p:cNvSpPr txBox="1"/>
                <p:nvPr/>
              </p:nvSpPr>
              <p:spPr>
                <a:xfrm>
                  <a:off x="2831400" y="5156640"/>
                  <a:ext cx="250560" cy="57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Text Box 56"/>
            <p:cNvSpPr/>
            <p:nvPr/>
          </p:nvSpPr>
          <p:spPr>
            <a:xfrm>
              <a:off x="3971880" y="5073120"/>
              <a:ext cx="3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Arc 57"/>
            <p:cNvSpPr/>
            <p:nvPr/>
          </p:nvSpPr>
          <p:spPr>
            <a:xfrm>
              <a:off x="2913840" y="4653720"/>
              <a:ext cx="1216440" cy="7905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Group 61"/>
            <p:cNvGrpSpPr/>
            <p:nvPr/>
          </p:nvGrpSpPr>
          <p:grpSpPr>
            <a:xfrm>
              <a:off x="3089160" y="4076640"/>
              <a:ext cx="552240" cy="576720"/>
              <a:chOff x="3089160" y="4076640"/>
              <a:chExt cx="552240" cy="576720"/>
            </a:xfrm>
          </p:grpSpPr>
          <p:sp>
            <p:nvSpPr>
              <p:cNvPr id="160" name="Text Box 58"/>
              <p:cNvSpPr/>
              <p:nvPr/>
            </p:nvSpPr>
            <p:spPr>
              <a:xfrm>
                <a:off x="3089160" y="413496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1" name="Object 1031"/>
                  <p:cNvSpPr txBox="1"/>
                  <p:nvPr/>
                </p:nvSpPr>
                <p:spPr>
                  <a:xfrm>
                    <a:off x="3409200" y="4076640"/>
                    <a:ext cx="232200" cy="57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62" name="Object 1025"/>
              <p:cNvSpPr txBox="1"/>
              <p:nvPr/>
            </p:nvSpPr>
            <p:spPr>
              <a:xfrm>
                <a:off x="4500720" y="3213000"/>
                <a:ext cx="3506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026"/>
              <p:cNvSpPr txBox="1"/>
              <p:nvPr/>
            </p:nvSpPr>
            <p:spPr>
              <a:xfrm>
                <a:off x="7236000" y="3141720"/>
                <a:ext cx="309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4" name="Group 70"/>
          <p:cNvGrpSpPr/>
          <p:nvPr/>
        </p:nvGrpSpPr>
        <p:grpSpPr>
          <a:xfrm>
            <a:off x="5148360" y="5300640"/>
            <a:ext cx="2633040" cy="779040"/>
            <a:chOff x="5148360" y="5300640"/>
            <a:chExt cx="2633040" cy="779040"/>
          </a:xfrm>
        </p:grpSpPr>
        <p:grpSp>
          <p:nvGrpSpPr>
            <p:cNvPr id="165" name="Group 62"/>
            <p:cNvGrpSpPr/>
            <p:nvPr/>
          </p:nvGrpSpPr>
          <p:grpSpPr>
            <a:xfrm>
              <a:off x="5506920" y="5300640"/>
              <a:ext cx="632160" cy="778680"/>
              <a:chOff x="5506920" y="5300640"/>
              <a:chExt cx="632160" cy="778680"/>
            </a:xfrm>
          </p:grpSpPr>
          <p:sp>
            <p:nvSpPr>
              <p:cNvPr id="166" name="Text Box 63"/>
              <p:cNvSpPr/>
              <p:nvPr/>
            </p:nvSpPr>
            <p:spPr>
              <a:xfrm>
                <a:off x="5506920" y="5461200"/>
                <a:ext cx="3528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7" name="Object 1029"/>
                  <p:cNvSpPr txBox="1"/>
                  <p:nvPr/>
                </p:nvSpPr>
                <p:spPr>
                  <a:xfrm>
                    <a:off x="5856840" y="5300640"/>
                    <a:ext cx="282240" cy="778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8" name="Object 1027"/>
                <p:cNvSpPr txBox="1"/>
                <p:nvPr/>
              </p:nvSpPr>
              <p:spPr>
                <a:xfrm>
                  <a:off x="5148360" y="5300640"/>
                  <a:ext cx="304920" cy="77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Text Box 66"/>
            <p:cNvSpPr/>
            <p:nvPr/>
          </p:nvSpPr>
          <p:spPr>
            <a:xfrm>
              <a:off x="6151680" y="5496840"/>
              <a:ext cx="399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Object 1028"/>
                <p:cNvSpPr txBox="1"/>
                <p:nvPr/>
              </p:nvSpPr>
              <p:spPr>
                <a:xfrm>
                  <a:off x="6664320" y="5300640"/>
                  <a:ext cx="281880" cy="77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Text Box 68"/>
            <p:cNvSpPr/>
            <p:nvPr/>
          </p:nvSpPr>
          <p:spPr>
            <a:xfrm>
              <a:off x="6955200" y="5496840"/>
              <a:ext cx="401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69"/>
            <p:cNvSpPr/>
            <p:nvPr/>
          </p:nvSpPr>
          <p:spPr>
            <a:xfrm>
              <a:off x="7372080" y="5406480"/>
              <a:ext cx="409320" cy="642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5292720" y="4724280"/>
            <a:ext cx="2975040" cy="104472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1116000" y="1916280"/>
            <a:ext cx="69134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eżeli chcemy dodać liczby mieszane, dodajemy całości do całości, a ułamki do ułamków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25"/>
              <p:cNvSpPr txBox="1"/>
              <p:nvPr/>
            </p:nvSpPr>
            <p:spPr>
              <a:xfrm>
                <a:off x="1332000" y="4724280"/>
                <a:ext cx="33843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Arc 152"/>
          <p:cNvSpPr/>
          <p:nvPr/>
        </p:nvSpPr>
        <p:spPr>
          <a:xfrm>
            <a:off x="1403280" y="4221000"/>
            <a:ext cx="863640" cy="381240"/>
          </a:xfrm>
          <a:prstGeom prst="pie">
            <a:avLst/>
          </a:pr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rc 151"/>
          <p:cNvSpPr/>
          <p:nvPr/>
        </p:nvSpPr>
        <p:spPr>
          <a:xfrm>
            <a:off x="1835280" y="4292640"/>
            <a:ext cx="792000" cy="3808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764640"/>
            <a:ext cx="7543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śli dwa ułamki, które chcemy  dodać   mają różne mianowniki to należy najpierw sprowadzić je do wspólnego mianownika, następnie dodać liczniki. Dąży się do tego aby wspólny mianownik był możliwie najmniejszy.  </a:t>
            </a:r>
            <a:br>
              <a:rPr sz="32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Sprowadzanie do wspólnego mianownika - przykład"/>
          <p:cNvPicPr/>
          <p:nvPr/>
        </p:nvPicPr>
        <p:blipFill>
          <a:blip r:embed="rId1"/>
          <a:stretch/>
        </p:blipFill>
        <p:spPr>
          <a:xfrm>
            <a:off x="2916360" y="4221000"/>
            <a:ext cx="4032000" cy="1744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zykł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3" name="" descr="Dodawanie i odejmowanie u&amp;lstrok;amków o ró&amp;zdot;nych mianownikach. Najpierw sprowadzamy u&amp;lstrok;amki do wspólnego mianownika, którym jest 6 (najmniejsza wspólna wielokrotno&amp;sacute;&amp;cacute; liczb 2 i 3)."/>
          <p:cNvPicPr/>
          <p:nvPr/>
        </p:nvPicPr>
        <p:blipFill>
          <a:blip r:embed="rId1"/>
          <a:stretch/>
        </p:blipFill>
        <p:spPr>
          <a:xfrm>
            <a:off x="1090440" y="1916280"/>
            <a:ext cx="8053560" cy="3209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381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zykła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357720" y="3457440"/>
            <a:ext cx="2962080" cy="1162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6912000" cy="2711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dejmowanie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ułamków zwykłych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żeli dwa ułamki mają identyczne mianowniki to aby je odjąć należy odjąć liczniki tych ułamków                 a mianownik pozostawić bez zmian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2916360" y="4292640"/>
            <a:ext cx="3384360" cy="1274760"/>
          </a:xfrm>
          <a:prstGeom prst="rect">
            <a:avLst/>
          </a:prstGeom>
          <a:ln w="25560">
            <a:solidFill>
              <a:srgbClr val="ff01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975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eżeli chcemy odjąć liczby mieszane, odejmujemy całości od całości, a ułamki od ułamków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Odejmowanie u&amp;lstrok;amków zwyk&amp;lstrok;ych."/>
          <p:cNvPicPr/>
          <p:nvPr/>
        </p:nvPicPr>
        <p:blipFill>
          <a:blip r:embed="rId1"/>
          <a:stretch/>
        </p:blipFill>
        <p:spPr>
          <a:xfrm>
            <a:off x="1547640" y="3500280"/>
            <a:ext cx="6769440" cy="2592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6:32:07Z</dcterms:created>
  <dc:creator>x</dc:creator>
  <dc:description/>
  <dc:language>en-US</dc:language>
  <cp:lastModifiedBy>x</cp:lastModifiedBy>
  <dcterms:modified xsi:type="dcterms:W3CDTF">2013-04-22T17:34:45Z</dcterms:modified>
  <cp:revision>47</cp:revision>
  <dc:subject/>
  <dc:title>Dodawanie i odejmowanie ułamków zwykłych</dc:title>
</cp:coreProperties>
</file>